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F9E-10CB-4553-8045-92AD7DE9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0DF-6B54-4DF0-9809-58FB0D11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7A7-D271-4044-A2E0-C07605BF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B44-12B5-4D14-8B62-911DC085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D9EB-198E-47AA-B6CF-3387925B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106E-9484-4C37-BB79-2FFD727C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962F-D0E2-4806-B16A-7C983730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1942-CE27-42E4-A331-9BBB76CD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BE80-A185-46EB-AFD6-96ADA0B2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7763-4D47-434D-AF13-05A27AFC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E3E4-21A5-4577-BBD5-A9CB7DFB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504-3275-45BB-BB17-EDEC9EF0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7932-36ED-4CFF-B61E-2F2E1E06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BEAF-4A92-4F47-958B-8FB37EB2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5CDA-6934-426F-B23A-75037418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8446-4799-4D36-AA2B-4FE76BD5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DDEB-8F28-4909-88C4-8F597A71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CD6-CDC7-4B0D-A6C6-56723996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E4C-A47B-416B-AA7A-88EC0185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283-C2F7-4531-ADCC-1C62B2E7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6D3-ED44-4E2C-9B25-FF244F8D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672-3770-4471-BEE0-08F02700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E88-6FF0-46EE-8788-0EFB7DD9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FA3-9411-4A69-9713-E0DFEBD2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BC60-3584-47EF-AE4A-2A447C144C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42E6-E6B3-4CB5-B848-8D323C420F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757080" y="836280"/>
            <a:ext cx="67816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L’ ipert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42920" y="2852640"/>
            <a:ext cx="64008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Che cos’ è un ipert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Progettazione e realizzazione di              ipert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a re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ntenuti sono scomposti con la massima flessi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nodo ha un numero variabile di collegamenti in entrata e in us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nsultazione a volte può apparire dispersiva, ma l’ipertesto risulta ricco e v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2752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cc"/>
                </a:solidFill>
                <a:latin typeface="Arial"/>
              </a:rPr>
              <a:t>I due COMPONENTI di un ipertes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nodo: costituisce una unità di informazione autosufficiente e compiuta, e può corrispondere a meno di una pagina o a più pa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link: viene attivato tramite mouse, ed è riconoscibile in quanto su di esso il cursore cambia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cc"/>
                </a:solidFill>
                <a:latin typeface="Arial"/>
              </a:rPr>
              <a:t>In breve, un buon ipertesto deve offrire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à di con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eplicità di preco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plicità di consul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Facciamo chiarezza su alcuni termini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pertesto: documento mono-mediale e non sequen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ultimediale: elaboratore in grado di gestire elementi testuali e 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permedia: documento con elementi multimediali e non sequenz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rattivo: software che consente di ottenere risposte rap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’ipertesto segue lo stesso processo del nostro pensiero: riflettiam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68407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un’idea su un argomento ne nascono altre su altri argomenti alle quali si associano di nu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nostra mente formula idee parallelamente su fronti diversi, procedendo secondo un metodo di associ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Cos’ è un ipertesto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crittura ipertestuale è una nuova forma espressiva e, in una certa misura, anche un nuovo modo di pensare il sapere, di trattare e rielaborare le informazioni, di organizzare la conoscenza. Esso è fornito di collegamenti che permettono di accedere ad altre parti del testo o ad altri documenti permettendo una consultazione non sequen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’ ipertesto offr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modo nuovo e libero di costruire il pens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ssibilità di dare spazio alla propria fant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reazione di una rete di testi collegati fra loro da tante connes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e fasi principal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io: definisce l’area di competenza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zione: crea l’astrazione del prodotto, definendone le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: consolida la fase precedente, formalizzandolo tramite disegni e mod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zzazione: crea il prototipo e lo colla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zione:rilascia il prodot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Costruzione di un ipertes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tura log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tassi del legame ipertest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tura reticolare dei contenuti (sequenziale, gerarchica, a griglia, a r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sequenzia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nodo introduce i concetti del nodo successivo in modo lin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usa quando si desidera eliminare i pericoli della dispersione nella consul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enta sequenza della consultazione può essere vivacizzata dalla possibilità di saltare alcuni n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gerarch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uo argomento può essere suddiviso in più argomenti secondo una gerarchia “ad albe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nsultazione è facilitata dalla scelta dei percorsi che si diramano divenendo sempre più specif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a grig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contenuti possono essere scomposti secondo due criter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in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ratific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modo che ogni segmento possa essere visitato “in vertica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Dante  Tasso  Ve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Op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Cor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1:07:10Z</dcterms:created>
  <dc:creator>Los Salseros</dc:creator>
  <dc:description/>
  <dc:language>en-US</dc:language>
  <cp:lastModifiedBy>Los Salseros</cp:lastModifiedBy>
  <dcterms:modified xsi:type="dcterms:W3CDTF">2007-05-26T00:18:54Z</dcterms:modified>
  <cp:revision>3</cp:revision>
  <dc:subject/>
  <dc:title>L’ ipertesto</dc:title>
</cp:coreProperties>
</file>